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3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AF4F-5EBB-4F0F-A407-F5CEAEDD7DA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E35F-3122-48D4-815D-5101D51BB4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5E854-E994-4B01-BFB0-54E7E4032CA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B1B39-D473-484C-A89F-F6DC6B0179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823BF-42BE-4C5B-BB91-A6F76B5B86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49B-7174-40C0-AA57-96415140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4DD-23CA-4EB3-8550-76F3CFEA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0ED-25EB-4B2B-9B60-605755A7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23A-EC6E-4C1D-A95F-74CA43FE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701-1D46-4D03-BA4E-519B0FD0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10B-DE16-4D17-9052-F820D2D6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821-F855-4D03-AD7E-1D89077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52B-C538-4379-AF3D-F3AD2D44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FD2-6D20-4632-B38C-9BD32CFF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1D3-EA46-466A-9F18-C2CA813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85D-9944-4AB9-A083-DB4E32B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359-1CC3-4C82-A59F-8671F4B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B28-E3C1-4726-BA27-3755A21143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7680" y="2793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15000" y="52023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5 Grupo"/>
          <p:cNvGrpSpPr/>
          <p:nvPr/>
        </p:nvGrpSpPr>
        <p:grpSpPr>
          <a:xfrm>
            <a:off x="4500720" y="1643040"/>
            <a:ext cx="852840" cy="857160"/>
            <a:chOff x="4500720" y="1643040"/>
            <a:chExt cx="852840" cy="857160"/>
          </a:xfrm>
        </p:grpSpPr>
        <p:sp>
          <p:nvSpPr>
            <p:cNvPr id="117" name="13 Arco"/>
            <p:cNvSpPr/>
            <p:nvPr/>
          </p:nvSpPr>
          <p:spPr>
            <a:xfrm rot="16200000">
              <a:off x="4465080" y="1892880"/>
              <a:ext cx="64296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4 CuadroTexto"/>
            <p:cNvSpPr/>
            <p:nvPr/>
          </p:nvSpPr>
          <p:spPr>
            <a:xfrm>
              <a:off x="4779720" y="16430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2411280" y="636120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15 Grupo"/>
          <p:cNvGrpSpPr/>
          <p:nvPr/>
        </p:nvGrpSpPr>
        <p:grpSpPr>
          <a:xfrm>
            <a:off x="5514840" y="6192720"/>
            <a:ext cx="853200" cy="691920"/>
            <a:chOff x="5514840" y="6192720"/>
            <a:chExt cx="853200" cy="691920"/>
          </a:xfrm>
        </p:grpSpPr>
        <p:sp>
          <p:nvSpPr>
            <p:cNvPr id="121" name="13 Arco"/>
            <p:cNvSpPr/>
            <p:nvPr/>
          </p:nvSpPr>
          <p:spPr>
            <a:xfrm rot="16200000">
              <a:off x="5540760" y="6338880"/>
              <a:ext cx="51948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4 CuadroTexto"/>
            <p:cNvSpPr/>
            <p:nvPr/>
          </p:nvSpPr>
          <p:spPr>
            <a:xfrm>
              <a:off x="5794200" y="61927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5541840" y="6534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Conector recto de flecha 3"/>
          <p:cNvCxnSpPr/>
          <p:nvPr/>
        </p:nvCxnSpPr>
        <p:spPr>
          <a:xfrm>
            <a:off x="4643280" y="6305400"/>
            <a:ext cx="111672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28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29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5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73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74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80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8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1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4" name="Arc 12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>
                <a:gd name="textAreaLeft" fmla="*/ 0 w 1440000"/>
                <a:gd name="textAreaRight" fmla="*/ 1440000 w 144000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echa abajo 5"/>
          <p:cNvSpPr/>
          <p:nvPr/>
        </p:nvSpPr>
        <p:spPr>
          <a:xfrm>
            <a:off x="6432480" y="5300640"/>
            <a:ext cx="331920" cy="11527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Texto 6"/>
          <p:cNvSpPr/>
          <p:nvPr/>
        </p:nvSpPr>
        <p:spPr>
          <a:xfrm>
            <a:off x="6759360" y="56386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7"/>
          <p:cNvSpPr/>
          <p:nvPr/>
        </p:nvSpPr>
        <p:spPr>
          <a:xfrm>
            <a:off x="7356600" y="5095800"/>
            <a:ext cx="4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ángulo 8"/>
          <p:cNvSpPr/>
          <p:nvPr/>
        </p:nvSpPr>
        <p:spPr>
          <a:xfrm>
            <a:off x="7356600" y="5159520"/>
            <a:ext cx="484200" cy="47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8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12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6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20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3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7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cebador de la glucógeno sintasa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39640" y="1494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adición de unidades de glucos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Glucógeno sint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b050"/>
                </a:solidFill>
                <a:latin typeface="Comic Sans MS"/>
              </a:rPr>
              <a:t>una función similar la desempeña el almidón en el mundo vegetal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83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84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7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03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18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8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14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17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06520" y="353880"/>
            <a:ext cx="80229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2"/>
          <p:cNvGrpSpPr/>
          <p:nvPr/>
        </p:nvGrpSpPr>
        <p:grpSpPr>
          <a:xfrm>
            <a:off x="54720" y="2492280"/>
            <a:ext cx="2351880" cy="2463480"/>
            <a:chOff x="54720" y="2492280"/>
            <a:chExt cx="2351880" cy="2463480"/>
          </a:xfrm>
        </p:grpSpPr>
        <p:sp>
          <p:nvSpPr>
            <p:cNvPr id="321" name="Text Box 5"/>
            <p:cNvSpPr/>
            <p:nvPr/>
          </p:nvSpPr>
          <p:spPr>
            <a:xfrm>
              <a:off x="1032480" y="2492280"/>
              <a:ext cx="1374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cagón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drena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960120" y="2496240"/>
              <a:ext cx="70920" cy="90072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9440 h 900720"/>
                <a:gd name="textAreaBottom" fmla="*/ 881280 h 9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3"/>
                    <a:pt x="10800" y="1506"/>
                  </a:cubicBezTo>
                  <a:lnTo>
                    <a:pt x="10800" y="9294"/>
                  </a:lnTo>
                  <a:cubicBezTo>
                    <a:pt x="10800" y="10047"/>
                    <a:pt x="5400" y="10800"/>
                    <a:pt x="0" y="10800"/>
                  </a:cubicBezTo>
                  <a:cubicBezTo>
                    <a:pt x="5400" y="10800"/>
                    <a:pt x="10800" y="11553"/>
                    <a:pt x="10800" y="12306"/>
                  </a:cubicBezTo>
                  <a:lnTo>
                    <a:pt x="10800" y="20094"/>
                  </a:lnTo>
                  <a:cubicBezTo>
                    <a:pt x="10800" y="2084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923760" y="3561120"/>
              <a:ext cx="107280" cy="1394640"/>
            </a:xfrm>
            <a:custGeom>
              <a:avLst/>
              <a:gdLst>
                <a:gd name="textAreaLeft" fmla="*/ 68760 w 107280"/>
                <a:gd name="textAreaRight" fmla="*/ 107640 w 107280"/>
                <a:gd name="textAreaTop" fmla="*/ 14400 h 1394640"/>
                <a:gd name="textAreaBottom" fmla="*/ 1380240 h 13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4"/>
                    <a:pt x="10800" y="727"/>
                  </a:cubicBezTo>
                  <a:lnTo>
                    <a:pt x="10800" y="10073"/>
                  </a:lnTo>
                  <a:cubicBezTo>
                    <a:pt x="10800" y="10437"/>
                    <a:pt x="5400" y="10800"/>
                    <a:pt x="0" y="10800"/>
                  </a:cubicBezTo>
                  <a:cubicBezTo>
                    <a:pt x="5400" y="10800"/>
                    <a:pt x="10800" y="11164"/>
                    <a:pt x="10800" y="11527"/>
                  </a:cubicBezTo>
                  <a:lnTo>
                    <a:pt x="10800" y="20873"/>
                  </a:lnTo>
                  <a:cubicBezTo>
                    <a:pt x="10800" y="212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720" y="2589480"/>
              <a:ext cx="9014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6839280" y="2058840"/>
            <a:ext cx="2201040" cy="1159560"/>
            <a:chOff x="6839280" y="2058840"/>
            <a:chExt cx="2201040" cy="1159560"/>
          </a:xfrm>
        </p:grpSpPr>
        <p:sp>
          <p:nvSpPr>
            <p:cNvPr id="326" name="Text Box 9"/>
            <p:cNvSpPr/>
            <p:nvPr/>
          </p:nvSpPr>
          <p:spPr>
            <a:xfrm>
              <a:off x="6839280" y="205884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agón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0"/>
            <p:cNvSpPr/>
            <p:nvPr/>
          </p:nvSpPr>
          <p:spPr>
            <a:xfrm flipH="1">
              <a:off x="8042040" y="2163600"/>
              <a:ext cx="162000" cy="833400"/>
            </a:xfrm>
            <a:custGeom>
              <a:avLst/>
              <a:gdLst>
                <a:gd name="textAreaLeft" fmla="*/ 104040 w 162000"/>
                <a:gd name="textAreaRight" fmla="*/ 162720 w 162000"/>
                <a:gd name="textAreaTop" fmla="*/ 11160 h 833400"/>
                <a:gd name="textAreaBottom" fmla="*/ 82224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4"/>
                    <a:pt x="10800" y="927"/>
                  </a:cubicBezTo>
                  <a:lnTo>
                    <a:pt x="10800" y="9873"/>
                  </a:lnTo>
                  <a:cubicBezTo>
                    <a:pt x="10800" y="10337"/>
                    <a:pt x="5400" y="10800"/>
                    <a:pt x="0" y="10800"/>
                  </a:cubicBezTo>
                  <a:cubicBezTo>
                    <a:pt x="5400" y="10800"/>
                    <a:pt x="10800" y="11264"/>
                    <a:pt x="10800" y="11727"/>
                  </a:cubicBezTo>
                  <a:lnTo>
                    <a:pt x="10800" y="20673"/>
                  </a:lnTo>
                  <a:cubicBezTo>
                    <a:pt x="10800" y="211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8207280" y="24159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6822360" y="3168720"/>
            <a:ext cx="2298240" cy="1238760"/>
            <a:chOff x="6822360" y="3168720"/>
            <a:chExt cx="2298240" cy="1238760"/>
          </a:xfrm>
        </p:grpSpPr>
        <p:sp>
          <p:nvSpPr>
            <p:cNvPr id="330" name="Text Box 9"/>
            <p:cNvSpPr/>
            <p:nvPr/>
          </p:nvSpPr>
          <p:spPr>
            <a:xfrm>
              <a:off x="6822360" y="324792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drena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a++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flipH="1">
              <a:off x="8067960" y="3246480"/>
              <a:ext cx="165960" cy="111924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360 h 1119240"/>
                <a:gd name="textAreaBottom" fmla="*/ 1109880 h 11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5"/>
                    <a:pt x="10800" y="589"/>
                  </a:cubicBezTo>
                  <a:lnTo>
                    <a:pt x="10800" y="10211"/>
                  </a:lnTo>
                  <a:cubicBezTo>
                    <a:pt x="10800" y="10506"/>
                    <a:pt x="5400" y="10800"/>
                    <a:pt x="0" y="10800"/>
                  </a:cubicBezTo>
                  <a:cubicBezTo>
                    <a:pt x="5400" y="10800"/>
                    <a:pt x="10800" y="11095"/>
                    <a:pt x="10800" y="11389"/>
                  </a:cubicBezTo>
                  <a:lnTo>
                    <a:pt x="10800" y="21011"/>
                  </a:lnTo>
                  <a:cubicBezTo>
                    <a:pt x="10800" y="2130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8219160" y="3168720"/>
              <a:ext cx="90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7893000" y="3643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39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42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rc 14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>
              <a:gd name="textAreaLeft" fmla="*/ -360 w 2232360"/>
              <a:gd name="textAreaRight" fmla="*/ 2232360 w 22323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47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50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6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7"/>
          <p:cNvGrpSpPr/>
          <p:nvPr/>
        </p:nvGrpSpPr>
        <p:grpSpPr>
          <a:xfrm>
            <a:off x="611640" y="2571840"/>
            <a:ext cx="8206560" cy="459720"/>
            <a:chOff x="611640" y="2571840"/>
            <a:chExt cx="8206560" cy="459720"/>
          </a:xfrm>
        </p:grpSpPr>
        <p:sp>
          <p:nvSpPr>
            <p:cNvPr id="72" name="Text Box 10"/>
            <p:cNvSpPr/>
            <p:nvPr/>
          </p:nvSpPr>
          <p:spPr>
            <a:xfrm>
              <a:off x="611640" y="257184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86240" y="257184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2"/>
            <p:cNvGrpSpPr/>
            <p:nvPr/>
          </p:nvGrpSpPr>
          <p:grpSpPr>
            <a:xfrm>
              <a:off x="3635280" y="2714760"/>
              <a:ext cx="1655640" cy="144360"/>
              <a:chOff x="3635280" y="2714760"/>
              <a:chExt cx="1655640" cy="14436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706920" y="271476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3635280" y="285912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15"/>
          <p:cNvSpPr/>
          <p:nvPr/>
        </p:nvSpPr>
        <p:spPr>
          <a:xfrm>
            <a:off x="468360" y="50720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16 Conector recto de flecha"/>
          <p:cNvCxnSpPr/>
          <p:nvPr/>
        </p:nvCxnSpPr>
        <p:spPr>
          <a:xfrm flipH="1">
            <a:off x="571320" y="343008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17 CuadroTexto"/>
          <p:cNvSpPr/>
          <p:nvPr/>
        </p:nvSpPr>
        <p:spPr>
          <a:xfrm>
            <a:off x="642960" y="3429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(entre las comi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8 Conector recto de flecha"/>
          <p:cNvCxnSpPr/>
          <p:nvPr/>
        </p:nvCxnSpPr>
        <p:spPr>
          <a:xfrm flipH="1" flipV="1">
            <a:off x="571320" y="407124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" name="20 CuadroTexto"/>
          <p:cNvSpPr/>
          <p:nvPr/>
        </p:nvSpPr>
        <p:spPr>
          <a:xfrm>
            <a:off x="928800" y="41306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21 Conector recto de flecha"/>
          <p:cNvCxnSpPr/>
          <p:nvPr/>
        </p:nvCxnSpPr>
        <p:spPr>
          <a:xfrm flipH="1" flipV="1">
            <a:off x="5785560" y="3357000"/>
            <a:ext cx="252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22 CuadroTexto"/>
          <p:cNvSpPr/>
          <p:nvPr/>
        </p:nvSpPr>
        <p:spPr>
          <a:xfrm>
            <a:off x="6029280" y="3500280"/>
            <a:ext cx="25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pospra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0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o 2"/>
          <p:cNvGrpSpPr/>
          <p:nvPr/>
        </p:nvGrpSpPr>
        <p:grpSpPr>
          <a:xfrm>
            <a:off x="1187280" y="0"/>
            <a:ext cx="6250320" cy="6858000"/>
            <a:chOff x="1187280" y="0"/>
            <a:chExt cx="6250320" cy="6858000"/>
          </a:xfrm>
        </p:grpSpPr>
        <p:pic>
          <p:nvPicPr>
            <p:cNvPr id="97" name="Picture 5" descr="glucogenofosforilasa"/>
            <p:cNvPicPr/>
            <p:nvPr/>
          </p:nvPicPr>
          <p:blipFill>
            <a:blip r:embed="rId1"/>
            <a:srcRect l="0" t="0" r="19750" b="34060"/>
            <a:stretch/>
          </p:blipFill>
          <p:spPr>
            <a:xfrm>
              <a:off x="1187280" y="0"/>
              <a:ext cx="625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ángulo 1"/>
            <p:cNvSpPr/>
            <p:nvPr/>
          </p:nvSpPr>
          <p:spPr>
            <a:xfrm>
              <a:off x="2700000" y="6093000"/>
              <a:ext cx="1366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fravega</cp:lastModifiedBy>
  <dcterms:modified xsi:type="dcterms:W3CDTF">2016-09-07T23:41:42Z</dcterms:modified>
  <cp:revision>81</cp:revision>
  <dc:subject/>
  <dc:title>Diapositiva 1</dc:title>
</cp:coreProperties>
</file>